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C9B-F4F8-48E6-B18E-FF8692DD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660-39FC-40F3-B0DD-20772B41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5A7F-E395-4954-99C4-6FE3E173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33A-A451-42AC-9E96-35D9B3D0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C55B-5C38-4EA6-9462-FC2129F3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FD8-3DF3-4CE6-BC10-567FC3B7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FA60-026F-4E01-BA6F-440F43A5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EF8D-8902-4846-9B91-C5DD58BA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B66F-A809-4737-91A1-28E80EA3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40B6-BF63-44CB-8F5E-640B154E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54D4-4684-4D93-97AB-D02EBDB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7F16-DF30-4998-9BD8-696013F9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33A8-CC06-48A0-86DA-300DC3B5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F7DE-34EE-4A5B-8CC2-A16E2CB0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D323-B4F9-45E8-B7A1-8AEBC615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E4EA-C1B6-4C57-858A-6E76A1D4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4CFA-3DEB-4BC3-BAF6-287AE3A5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C06-7773-4CBD-8D1C-EBE4C469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1E4-985F-47C3-BCD3-9FE07469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C6E-E40A-4F97-884C-83A84BF6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2AA-115A-4B70-8FA8-D21DA38E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153-BF72-45A7-A1BD-285CA230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19B0-B947-4CC0-B391-42D86CA0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2A1-1520-4EB9-A26F-304C304F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92800" cy="3114720"/>
              <a:chOff x="-1080" y="2601000"/>
              <a:chExt cx="2692800" cy="31147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8560"/>
                <a:ext cx="1838160" cy="1667160"/>
                <a:chOff x="853560" y="4048560"/>
                <a:chExt cx="1838160" cy="16671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68880" y="5560200"/>
                  <a:ext cx="200880" cy="907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ED97-17B4-4B2C-AF6A-DA6A3B8B6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50040" cy="6858000"/>
            <a:chOff x="-1980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77680" y="61560"/>
              <a:ext cx="3652560" cy="6127560"/>
              <a:chOff x="5377680" y="61560"/>
              <a:chExt cx="3652560" cy="61275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5400" y="347400"/>
                <a:ext cx="21222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09160" y="1959480"/>
                <a:ext cx="90900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07600" y="2571480"/>
                <a:ext cx="4410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1760" y="67680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29800" y="2635560"/>
                <a:ext cx="16416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7280" y="123264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07960" y="2926800"/>
                <a:ext cx="52560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40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480" y="2000160"/>
              <a:ext cx="200484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512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9920" y="4532040"/>
              <a:ext cx="5634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71160" y="4728960"/>
              <a:ext cx="13860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5040" y="5195880"/>
              <a:ext cx="176436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63400" y="1032480"/>
              <a:ext cx="1017720" cy="1263960"/>
              <a:chOff x="4163400" y="1032480"/>
              <a:chExt cx="1017720" cy="12639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9920" y="1069920"/>
                <a:ext cx="285840" cy="379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64520" y="1603800"/>
                <a:ext cx="488880" cy="315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23800" y="196272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19600" y="228240"/>
              <a:ext cx="900360" cy="813600"/>
              <a:chOff x="5619600" y="228240"/>
              <a:chExt cx="900360" cy="8136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31920" y="710640"/>
                <a:ext cx="178200" cy="363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684400" y="399240"/>
                <a:ext cx="306000" cy="301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30520" y="327960"/>
                <a:ext cx="31896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4520" y="5247000"/>
              <a:ext cx="1056600" cy="830160"/>
              <a:chOff x="974520" y="5247000"/>
              <a:chExt cx="1056600" cy="8301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3960" y="5506200"/>
                <a:ext cx="251640" cy="299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8440" y="5722200"/>
                <a:ext cx="430920" cy="248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5880" y="5371920"/>
                <a:ext cx="450360" cy="12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7280" y="390600"/>
              <a:ext cx="1694880" cy="1146600"/>
              <a:chOff x="377280" y="390600"/>
              <a:chExt cx="169488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81840" y="1008360"/>
                <a:ext cx="35532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7080" y="533520"/>
                <a:ext cx="608400" cy="442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80440" y="1048680"/>
                <a:ext cx="636120" cy="22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62080" y="3711600"/>
              <a:ext cx="1159560" cy="1608840"/>
              <a:chOff x="7462080" y="3711600"/>
              <a:chExt cx="1159560" cy="160884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517160" y="4756320"/>
                <a:ext cx="35640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69320" y="4455000"/>
                <a:ext cx="610200" cy="441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61160" y="3780720"/>
                <a:ext cx="63792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7880" y="3240"/>
              <a:ext cx="137232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5840" y="161640"/>
              <a:ext cx="10843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9160" y="1361520"/>
              <a:ext cx="5252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4132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5240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60320" y="1964160"/>
              <a:ext cx="62568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88EF-72B8-485F-B06E-8433484AB271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4628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0"/>
                </a:solidFill>
                <a:latin typeface="Arial"/>
              </a:rPr>
              <a:t>Орфографические нормы. Правописание  гласных и согласных в приставках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1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иставки, зависящие от значен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- и при-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4429080" y="2357280"/>
            <a:ext cx="471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e2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иближ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e2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исоедин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e2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Расположение вблиз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e2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Неполнота действ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Прямоугольник 6"/>
          <p:cNvSpPr/>
          <p:nvPr/>
        </p:nvSpPr>
        <p:spPr>
          <a:xfrm>
            <a:off x="0" y="235728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568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82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«пере-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2e2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«очень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Прямоугольник 7"/>
          <p:cNvSpPr/>
          <p:nvPr/>
        </p:nvSpPr>
        <p:spPr>
          <a:xfrm>
            <a:off x="214200" y="3714840"/>
            <a:ext cx="40719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Вопреки правилу пишутся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ИСКОРБНЫЙ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«очень скорбный» (горький, печальный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ИЧУДЛИВЫЙ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«очень чудный, затейливый»</a:t>
            </a:r>
            <a:r>
              <a:rPr b="0" lang="ru-RU" sz="24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бъясните правописание приставок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85840" y="1600200"/>
            <a:ext cx="8572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...поднять голову,пр...опасный зверь, пр...держать дверь, пр...вокзальное кафе, пр...неприятное событие, пр...двинуть поближе, пр...бить к стенке, пр...плыть на корабле, пр...скучный рассказ, пр...красный собеседник, пр...близиться незаметно, пр...кусить щеку,пр…одолеть препятствие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ловарная рабо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997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e2e00"/>
                </a:solidFill>
                <a:uFillTx/>
                <a:latin typeface="Arial"/>
              </a:rPr>
              <a:t>Превалировать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2e2e00"/>
                </a:solidFill>
                <a:latin typeface="Arial"/>
              </a:rPr>
              <a:t>преобладать, иметь перевес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e2e00"/>
                </a:solidFill>
                <a:uFillTx/>
                <a:latin typeface="Arial"/>
              </a:rPr>
              <a:t>Претендент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2e2e00"/>
                </a:solidFill>
                <a:latin typeface="Arial"/>
              </a:rPr>
              <a:t>лицо, которое претендует на что-нибудь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e2e00"/>
                </a:solidFill>
                <a:uFillTx/>
                <a:latin typeface="Arial"/>
              </a:rPr>
              <a:t>Приоритет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2e2e00"/>
                </a:solidFill>
                <a:latin typeface="Arial"/>
              </a:rPr>
              <a:t>первенство по времени открытия; изобретении чего-то; первенствующее положение</a:t>
            </a:r>
            <a:r>
              <a:rPr b="1" i="1" lang="ru-RU" sz="3200" spc="-1" strike="noStrike">
                <a:solidFill>
                  <a:srgbClr val="2e2e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e2e00"/>
                </a:solidFill>
                <a:uFillTx/>
                <a:latin typeface="Times New Roman"/>
                <a:ea typeface="Times New Roman"/>
              </a:rPr>
              <a:t>Прерогатива</a:t>
            </a:r>
            <a:r>
              <a:rPr b="1" i="1" lang="ru-RU" sz="3200" spc="-1" strike="noStrike">
                <a:solidFill>
                  <a:srgbClr val="2e2e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2e2e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от латинского praerogativus - первым подающий голос), исключительное право, принадлежащее какому-либо государственному органу или должностному лицу (например, прерогатива Государственной думы..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Лексическая рабо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3840" y="1214280"/>
            <a:ext cx="847260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1) Место стоянки судов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2) Исключительное право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3) Глава государства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4) Первенство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5)Оперная певица, исполняющая первые роли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6)Купить –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7) Вступление к музыкальному произведению 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8)Льгота 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9)Продолжатель 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10)Первое представление 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4200"/>
            <a:ext cx="822960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1) Место стоянки судов 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истань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2) Исключительное право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ерогатива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3) Глава государства 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езидент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4) Первенство 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иоритет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5)Оперная певица, исполняющая первые роли 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имадонна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6)Купить 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иобрести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7) Вступление к музыкальному произведению 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елюдия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8)Льгота 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ивилегия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9)Продолжатель 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еемник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10)Первое представление (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емьера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ПОМНИ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- и при- «фонетические близнецы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142920" y="144468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е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зирать(ненавидеть) и 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зирать (давать приют);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е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клонить(голову) и 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клонить (ветку к земле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е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творить(мечту в реальность) и 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творить (дверь);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е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терпеть(неудобства) и 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терпеться (к неудобствам);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е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ходящий (момент) и 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и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ходящий (почтальон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рати внимание на список слов с приставками пре- при для запоминания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42920" y="142920"/>
            <a:ext cx="878688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ласные в приставках, зависящие от уда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5072040" y="1714680"/>
            <a:ext cx="2928960" cy="1000080"/>
          </a:xfrm>
          <a:prstGeom prst="horizontalScrol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0"/>
                </a:solidFill>
                <a:latin typeface="Verdana"/>
              </a:rPr>
              <a:t>Безударная позиц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714680" y="1785960"/>
            <a:ext cx="2928600" cy="1000080"/>
          </a:xfrm>
          <a:prstGeom prst="horizontalScroll">
            <a:avLst>
              <a:gd name="adj" fmla="val 125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00"/>
                </a:solidFill>
                <a:latin typeface="Verdana"/>
              </a:rPr>
              <a:t>Ударная позиц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2143080" y="3357720"/>
            <a:ext cx="1428840" cy="11430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РОС-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2214720" y="4929120"/>
            <a:ext cx="1500120" cy="11430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РОЗ</a:t>
            </a: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Прямоугольник 10"/>
          <p:cNvSpPr/>
          <p:nvPr/>
        </p:nvSpPr>
        <p:spPr>
          <a:xfrm>
            <a:off x="5357880" y="3357720"/>
            <a:ext cx="1357200" cy="11430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РАС-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Прямоугольник 11"/>
          <p:cNvSpPr/>
          <p:nvPr/>
        </p:nvSpPr>
        <p:spPr>
          <a:xfrm>
            <a:off x="5357880" y="4857840"/>
            <a:ext cx="1428840" cy="1143000"/>
          </a:xfrm>
          <a:prstGeom prst="rect">
            <a:avLst/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РАЗ-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должи образование новых слов по аналог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69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риставки РАС- (РОС)- РАЗ- (РОЗ-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Развалиться – розвальни (сани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Расплескать – росплес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Разливать – розли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Расчеркнуть – росчер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Рассыпать - …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Разыскать - ….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Расписать - ….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1640" y="285840"/>
            <a:ext cx="76597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Непродуктивные приставк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28760" y="1484280"/>
            <a:ext cx="8005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иставки </a:t>
            </a: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О-, ПО-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 общеупотребительные, а вот приставки </a:t>
            </a: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А- 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А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- являются непродуктивными в современном русском языке, а значит, не участвуют в образовании новых слов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а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- означает "изначальный, древний; дальний родственник" (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ародина; прадедушка, правнук, праязык</a:t>
            </a: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2e2e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а</a:t>
            </a:r>
            <a:r>
              <a:rPr b="0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 – всегда ударная приставка, она сохранилась в </a:t>
            </a:r>
            <a:r>
              <a:rPr b="0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словах </a:t>
            </a: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асынок, падчерица, паводок, пагубный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e2e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иставки - «иностранки»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ДЕЗ- (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ПЕРЕД ГЛАСНЫМИ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ДИС- (</a:t>
            </a: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ПЕРЕД СОГЛАСНЫМИ</a:t>
            </a: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)           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КОН-                      КОНТР-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ПАН-                      ПОСТ-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СУБ-                       ТРАНС-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Arial"/>
              </a:rPr>
              <a:t>СУПЕР-                  РЕ-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5640" y="259920"/>
            <a:ext cx="6708600" cy="593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Приставки придают речи столько богатейших оттенков! Чудесная выразительность в значительной мере зависит от них. В разнообразии приставок таится  разнообразие смысла.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К.И.Чуковски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Написание иностранных приставок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А приставки ИНОСТРАННЫЕ (СУБ-, ДЕЗ-, ТРАНС-) 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Все дамы странные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Уж такие утонченные (ПОСТ-, ПАН-, СУПЕР-)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В «И» влюбленные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Ты внимательно смотр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После «иностранок» - «И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К ним примкнули «наши» СВЕРХ-, МЕЖ-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СВЕРХ</a:t>
            </a:r>
            <a:r>
              <a:rPr b="1" lang="ru-RU" sz="2800" spc="-1" strike="noStrike" u="sng">
                <a:solidFill>
                  <a:srgbClr val="2e2e00"/>
                </a:solidFill>
                <a:uFillTx/>
                <a:latin typeface="Arial"/>
              </a:rPr>
              <a:t>И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зысканнее всех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СВЕРХ</a:t>
            </a:r>
            <a:r>
              <a:rPr b="1" lang="ru-RU" sz="2800" spc="-1" strike="noStrike" u="sng">
                <a:solidFill>
                  <a:srgbClr val="2e2e00"/>
                </a:solidFill>
                <a:uFillTx/>
                <a:latin typeface="Arial"/>
              </a:rPr>
              <a:t>И</a:t>
            </a: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скусно, СВЕРХталантлив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Arial"/>
              </a:rPr>
              <a:t>Дружат с «И» они, галантные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8286840" cy="55562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1600200"/>
            <a:ext cx="871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гнать, взобраться, прообраз, росчерк, несгибаемый, исподтишка, безыскусный, предисловие, преинтересный, пристроить, проректор, несдержанный, превозносить, бесцветный ,исчезнуть, дисбаланс.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474840"/>
            <a:ext cx="5906880" cy="93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Закончите мысл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Arial"/>
              </a:rPr>
              <a:t>Гласные и согласные в приставках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e2e00"/>
                </a:solidFill>
                <a:latin typeface="Arial"/>
              </a:rPr>
              <a:t>от-,  на-,  под-,  над-, с-( со-), про-,  пере-  </a:t>
            </a:r>
            <a:r>
              <a:rPr b="1" lang="ru-RU" sz="4800" spc="-1" strike="noStrike">
                <a:solidFill>
                  <a:srgbClr val="006699"/>
                </a:solidFill>
                <a:latin typeface="Arial"/>
              </a:rPr>
              <a:t>и  др</a:t>
            </a: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Arial"/>
              </a:rPr>
              <a:t>пишутся всегда </a:t>
            </a:r>
            <a:r>
              <a:rPr b="0" lang="ru-RU" sz="4800" spc="-1" strike="noStrike">
                <a:solidFill>
                  <a:srgbClr val="006699"/>
                </a:solidFill>
                <a:latin typeface="Arial"/>
              </a:rPr>
              <a:t>….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95280" y="115920"/>
            <a:ext cx="6654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61680" y="1412640"/>
            <a:ext cx="83026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Правописание приставок</a:t>
            </a:r>
            <a:r>
              <a:rPr b="0" lang="ru-RU" sz="3600" spc="-1" strike="noStrike">
                <a:solidFill>
                  <a:srgbClr val="2e2e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з–(рас-)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без- (бес-)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з- (вос-)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з-  (ис-) и др.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зависит от …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З -</a:t>
            </a:r>
            <a:r>
              <a:rPr b="0" lang="ru-RU" sz="3600" spc="-1" strike="noStrike">
                <a:solidFill>
                  <a:srgbClr val="2e2e00"/>
                </a:solidFill>
                <a:latin typeface="Arial"/>
              </a:rPr>
              <a:t> пишется </a:t>
            </a: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перед …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С -</a:t>
            </a:r>
            <a:r>
              <a:rPr b="0" lang="ru-RU" sz="3600" spc="-1" strike="noStrike">
                <a:solidFill>
                  <a:srgbClr val="2e2e00"/>
                </a:solidFill>
                <a:latin typeface="Arial"/>
              </a:rPr>
              <a:t> пишется </a:t>
            </a: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перед …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474840"/>
            <a:ext cx="59068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e2e00"/>
                </a:solidFill>
                <a:latin typeface="Arial"/>
              </a:rPr>
              <a:t>Правописание приставок </a:t>
            </a: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пре- и при- </a:t>
            </a:r>
            <a:r>
              <a:rPr b="0" lang="ru-RU" sz="4800" spc="-1" strike="noStrike">
                <a:solidFill>
                  <a:srgbClr val="2e2e00"/>
                </a:solidFill>
                <a:latin typeface="Arial"/>
              </a:rPr>
              <a:t>зависит от…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428400"/>
            <a:ext cx="8244000" cy="98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ужно употреби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3840" y="1214280"/>
            <a:ext cx="864396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ПРЕДСТАВЬТЕ гостям нашего друга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Актер умел ПРЕДСТАВИТЬ пение соловья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Я ПРЕДСТАВИЛ вам право самостоятельно решить вопрос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ПРЕДСТАВЬТЕ себя в этой ситуации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34920">
            <a:solidFill>
              <a:srgbClr val="006699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e2e00"/>
                </a:solidFill>
                <a:latin typeface="Arial"/>
              </a:rPr>
              <a:t>Группы приставок по написанию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2708280"/>
            <a:ext cx="3357720" cy="1368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Неизменяемы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о-, на-, -с-, под-, об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и д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14280" y="4500720"/>
            <a:ext cx="2843280" cy="1368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пре- пр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786280" y="2637000"/>
            <a:ext cx="3357720" cy="1368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Изменяемы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воз/вос чрез/чре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низ/ни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1692360" y="1413000"/>
            <a:ext cx="1727280" cy="1295280"/>
          </a:xfrm>
          <a:prstGeom prst="line">
            <a:avLst/>
          </a:prstGeom>
          <a:ln w="255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5867280" y="1413000"/>
            <a:ext cx="1800360" cy="122400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Line 9"/>
          <p:cNvSpPr/>
          <p:nvPr/>
        </p:nvSpPr>
        <p:spPr>
          <a:xfrm flipH="1">
            <a:off x="3286080" y="1413000"/>
            <a:ext cx="1214640" cy="301608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86200" y="4500720"/>
            <a:ext cx="2843280" cy="136836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ро'с/ ро'з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0"/>
                </a:solidFill>
                <a:latin typeface="Times New Roman"/>
                <a:ea typeface="Times New Roman"/>
              </a:rPr>
              <a:t>раз/ра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4786200" y="1428840"/>
            <a:ext cx="1214640" cy="3000240"/>
          </a:xfrm>
          <a:prstGeom prst="line">
            <a:avLst/>
          </a:prstGeom>
          <a:ln w="284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920" y="102960"/>
            <a:ext cx="878688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Неизменяемые приставк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57120" y="1428840"/>
            <a:ext cx="1656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б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428760" y="2857680"/>
            <a:ext cx="1655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Пред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4429080" y="3429000"/>
            <a:ext cx="1655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В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2214720" y="2143080"/>
            <a:ext cx="1655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т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215040" y="1285920"/>
            <a:ext cx="1655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Пере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2500200" y="928800"/>
            <a:ext cx="1656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Над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786280" y="5072040"/>
            <a:ext cx="1656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Под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3429000" y="5286240"/>
            <a:ext cx="1655640" cy="100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До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15"/>
          <p:cNvSpPr/>
          <p:nvPr/>
        </p:nvSpPr>
        <p:spPr>
          <a:xfrm>
            <a:off x="1000080" y="5643720"/>
            <a:ext cx="1643040" cy="857160"/>
          </a:xfrm>
          <a:prstGeom prst="cloudCallout">
            <a:avLst>
              <a:gd name="adj1" fmla="val -470037"/>
              <a:gd name="adj2" fmla="val 91416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6715080" y="3143160"/>
            <a:ext cx="1655640" cy="1008000"/>
          </a:xfrm>
          <a:prstGeom prst="cloudCallout">
            <a:avLst>
              <a:gd name="adj1" fmla="val -404745"/>
              <a:gd name="adj2" fmla="val -115671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По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2500200" y="3786120"/>
            <a:ext cx="1656000" cy="1008000"/>
          </a:xfrm>
          <a:prstGeom prst="cloudCallout">
            <a:avLst>
              <a:gd name="adj1" fmla="val -265532"/>
              <a:gd name="adj2" fmla="val -10133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На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4214880" y="1928880"/>
            <a:ext cx="1655640" cy="1008000"/>
          </a:xfrm>
          <a:prstGeom prst="cloudCallout">
            <a:avLst>
              <a:gd name="adj1" fmla="val -109060"/>
              <a:gd name="adj2" fmla="val -94250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За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21"/>
          <p:cNvSpPr/>
          <p:nvPr/>
        </p:nvSpPr>
        <p:spPr>
          <a:xfrm>
            <a:off x="428760" y="4286160"/>
            <a:ext cx="165564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С-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7"/>
          <p:cNvSpPr/>
          <p:nvPr/>
        </p:nvSpPr>
        <p:spPr>
          <a:xfrm>
            <a:off x="5148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894200" y="630864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42920" y="142920"/>
            <a:ext cx="87868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риставки на с-з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428760" y="2643120"/>
            <a:ext cx="2992320" cy="1435320"/>
          </a:xfrm>
          <a:prstGeom prst="ellipse">
            <a:avLst/>
          </a:prstGeom>
          <a:solidFill>
            <a:srgbClr val="edfad2"/>
          </a:solidFill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0"/>
                </a:solidFill>
                <a:latin typeface="Comic Sans MS"/>
              </a:rPr>
              <a:t>Перед глух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5286240" y="2714760"/>
            <a:ext cx="3000600" cy="1428480"/>
          </a:xfrm>
          <a:prstGeom prst="ellipse">
            <a:avLst/>
          </a:prstGeom>
          <a:solidFill>
            <a:srgbClr val="edfad2"/>
          </a:solidFill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0"/>
                </a:solidFill>
                <a:latin typeface="Comic Sans MS"/>
              </a:rPr>
              <a:t>Перед звонкой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2e00"/>
                </a:solidFill>
                <a:latin typeface="Comic Sans MS"/>
              </a:rPr>
              <a:t>и гласно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Прямоугольник 15"/>
          <p:cNvSpPr/>
          <p:nvPr/>
        </p:nvSpPr>
        <p:spPr>
          <a:xfrm>
            <a:off x="1544760" y="1214280"/>
            <a:ext cx="76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66"/>
                </a:solidFill>
                <a:latin typeface="Verdana"/>
              </a:rPr>
              <a:t>С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Прямоугольник 16"/>
          <p:cNvSpPr/>
          <p:nvPr/>
        </p:nvSpPr>
        <p:spPr>
          <a:xfrm>
            <a:off x="6598080" y="928800"/>
            <a:ext cx="8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6666"/>
                </a:solidFill>
                <a:latin typeface="Verdana"/>
              </a:rPr>
              <a:t>з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Прямоугольник 17"/>
          <p:cNvSpPr/>
          <p:nvPr/>
        </p:nvSpPr>
        <p:spPr>
          <a:xfrm>
            <a:off x="4786200" y="435780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2e00"/>
                </a:solidFill>
                <a:latin typeface="Verdana"/>
              </a:rPr>
              <a:t>воз-, из-, через-, вз-, низ-, раз-, без- и др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Прямоугольник 19"/>
          <p:cNvSpPr/>
          <p:nvPr/>
        </p:nvSpPr>
        <p:spPr>
          <a:xfrm>
            <a:off x="428760" y="4429080"/>
            <a:ext cx="41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e2e00"/>
                </a:solidFill>
                <a:latin typeface="Verdana"/>
              </a:rPr>
              <a:t>вос-, ис-, черес-, вс-, нис-, рас-, бес- и др</a:t>
            </a: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-360"/>
            <a:ext cx="822960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в словах приставка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стоять после приставки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быть незаметн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е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чивый, не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аемый, не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нный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следует помнить, что в словах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, здешний, выздорове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буква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частью корня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Arial"/>
              </a:rPr>
              <a:t>Запомнить!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буквой с пишутся слова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ресчур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чезнуть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чезновение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206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42920" y="142920"/>
            <a:ext cx="4572000" cy="59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2e2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00"/>
                </a:solidFill>
                <a:latin typeface="Arial"/>
              </a:rPr>
              <a:t>Б. Пастернаку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Рас-стояние: вёрсты, мили…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Нас рас-ставили, рас-садили,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Чтобы тихо себя вели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По двум разным концам земл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Рас-стояние: вёрсты, дали…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Нас расклеили, распаяли,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В две руки развели, распяв,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И не знали, что это — сплав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i="1" lang="ru-RU" sz="2000" spc="-1" strike="noStrike">
                <a:solidFill>
                  <a:srgbClr val="2e2e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428720" y="-360"/>
            <a:ext cx="4714920" cy="60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вдохновений и сухожилий…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Не рассо́рили — рассори́ли,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Расслоили…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Стена да ров.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Расселили нас, как орлов-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Заговорщиков: вёрсты, дали…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Не расстроили — растеряли.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По трущобам земных широт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Рассовали нас, как сирот.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Который уж, ну который — март?!</a:t>
            </a:r>
            <a:br>
              <a:rPr sz="2400"/>
            </a:br>
            <a:r>
              <a:rPr b="1" i="1" lang="ru-RU" sz="2400" spc="-1" strike="noStrike">
                <a:solidFill>
                  <a:srgbClr val="2e2e00"/>
                </a:solidFill>
                <a:latin typeface="Arial"/>
              </a:rPr>
              <a:t>Разбили нас — как колоду карт!</a:t>
            </a: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2e2e00"/>
                </a:solidFill>
                <a:latin typeface="Arial"/>
              </a:rPr>
              <a:t>&lt;Марина Цветаева, 24 марта 1925&gt;</a:t>
            </a:r>
            <a:r>
              <a:rPr b="1" lang="ru-RU" sz="1400" spc="-1" strike="noStrike">
                <a:solidFill>
                  <a:srgbClr val="2e2e00"/>
                </a:solidFill>
                <a:latin typeface="Arial"/>
              </a:rPr>
              <a:t> </a:t>
            </a:r>
            <a:br>
              <a:rPr sz="2000"/>
            </a:b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6:07:35Z</dcterms:created>
  <dc:creator>кабинет информатики</dc:creator>
  <dc:description/>
  <dc:language>en-US</dc:language>
  <cp:lastModifiedBy>1</cp:lastModifiedBy>
  <dcterms:modified xsi:type="dcterms:W3CDTF">2019-01-28T13:50:26Z</dcterms:modified>
  <cp:revision>152</cp:revision>
  <dc:subject/>
  <dc:title>ПРАВОПИСАНИЕ  ПРИСТАВ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140000000000010243100207f6000400038000</vt:lpwstr>
  </property>
</Properties>
</file>